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034C-0F4A-4168-A468-8326FE9E8A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CA27-4F34-444F-818B-C025F95A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A38-0756-45A3-ACBF-D4EB48B8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42D-A21D-4071-A344-BE8A6B9B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FAE-28D5-4D80-BE13-53131998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ACE0-92E1-4616-ABCD-8560AA9C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36F8-91F9-49B7-820D-94542F3E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7BA7-0E76-4B00-98FA-9ADF3AC2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3625-CE9F-4EDF-B132-7CF1322D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CD3F-83AB-4E3D-ABBE-093F9EA5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61FC-3653-4E6D-A21B-7DD20FCE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DB07-219E-4230-BBB7-BDC6D3A6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D44-D1D1-4611-ABA5-ABA9FB93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E9DD-2F24-495C-B6B7-E496DA28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8885-B6AC-4596-A5BB-FFD2A594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993D-091B-4663-9A02-6D8C5517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7451-EA9E-4F48-A11C-B49DC4EC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628F-2366-4F45-80A8-2EB187F3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0467E-34D0-468A-A19A-30B56AB9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065B5-D3BA-490D-89B6-C424404A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FA085-957A-466A-894C-42297A34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8FFC1-C544-4F02-9703-2C4C87E9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186B3-3B95-4608-ADB4-B44E3F88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D42-0AD5-42F8-BC99-B04B57D3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590C2-C1F8-4A19-995D-528561B2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41BD2-2645-4D36-ADDA-1BD1DEEF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67069-F1F7-43FD-B4A3-1BD78725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2B3E1-5DD2-4CEB-9A00-8FD87651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E789F-9678-44CE-91F2-E2848AFD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11DBD-19ED-4CD3-A1C8-5B52ACC5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6A883-D2FD-4E40-875E-D982442C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0D4-8508-4BAA-9305-FB28909D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E0BC-5FEB-4002-9355-0DD6FB6A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06F-31E9-451C-A845-1379ED52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9FB-8C4D-4E02-B247-084E0A3B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4BC-99A1-4C11-9529-F2D762A7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69F-1DF1-4EC8-BBB6-5DA50265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4362-ED76-49E5-97C4-CDB3D63B8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6B45-2491-4B09-BFFC-029220C66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0999-CB87-4519-A66C-AFB58F2600D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76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RomaK</cp:lastModifiedBy>
  <cp:lastPrinted>2008-06-08T23:00:35Z</cp:lastPrinted>
  <dcterms:modified xsi:type="dcterms:W3CDTF">2015-09-04T10:41:56Z</dcterms:modified>
  <cp:revision>20</cp:revision>
  <dc:subject/>
  <dc:title>Chapter 7</dc:title>
</cp:coreProperties>
</file>